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188-6A30-4EB4-AF7E-1A2DDE7F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A0C1-E34E-4900-B4D8-D21D4F6F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CCA4-5753-4A96-B771-82FCF581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C95-45F0-4A6C-A767-DFFC46DA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45A2-E799-4F3E-9F96-275E83EF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B46-83C5-4E6B-B743-63330339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A436-7EAE-4205-9303-4997FD96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9E7-3094-41E7-A9F5-C64C9298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1E0-7229-4290-B34D-474ADC18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997-B74D-4242-B1D6-CCD6836A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864-B0AC-40D9-BDEF-3B53C321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E41-BBCD-4504-961F-211C25EF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6276-B033-48D9-A5AA-22AF9A98B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1:35:20Z</dcterms:created>
  <dc:creator>L'Orangerie du Châter</dc:creator>
  <dc:description/>
  <dc:language>en-US</dc:language>
  <cp:lastModifiedBy>L'Orangerie du Châter</cp:lastModifiedBy>
  <dcterms:modified xsi:type="dcterms:W3CDTF">2010-05-14T08:55:52Z</dcterms:modified>
  <cp:revision>5</cp:revision>
  <dc:subject/>
  <dc:title>Diapositive 1</dc:title>
</cp:coreProperties>
</file>